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41D-57D9-4C6D-AD4C-89476C08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50E-97A4-4A68-B9C6-9426DDE1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43A-8996-4EE3-BAC0-821A280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B8A-0E3C-4B1E-A31E-F8DA9E33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69CF-5714-4434-AC12-5E0D5BC0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DACE-2F9E-4EB6-AD27-43A048D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DA8-75E2-4475-8876-4521C2D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39F5-FDD6-464A-8041-EC58ACE9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0BA-E249-4A6C-8A59-5B17DBA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27C-DFE3-4443-A87D-F5D44C9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ECB-F057-4DC5-8B51-C23F72C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314-BAE9-4045-9033-98BBB02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A467-D84C-4266-B022-12D5A2E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8A1-EC0F-4391-A6D6-4CAC5FA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9D23-5B0D-4AD4-82BD-6E256A5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96A3-1165-4A99-A253-B405D9C0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062A-9E71-4B71-BE7D-32865E81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BE0-B7EB-4191-BE38-1F98656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43F-61C6-4B44-9133-6871C7D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572-A6DC-4D28-82AB-BAD73DD5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9E3-E7D0-4214-BAD7-4E956DE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4CF-14F2-4C0E-8AE1-8A641A6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8FB-25F6-409B-B3D8-ECCADCC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465-3428-4252-B7CD-2F4AA34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4F37-48FB-4EFB-B0E6-E16A64A36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D98-3421-469D-A25F-4650A783B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de the Korean war different from the other w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de the Korean War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orean war was a fight for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Union wanted communism and the U.S wanted democ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directly back to the Col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hoice was 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ame war from the North Kor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r carried over from World war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first war that “Status Quo” was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ar that politicians ran the war not the ge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U.S wanted was a non-communist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orean war was a mile stone in wars in that it was the first war that didn’t result in a win, lose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3:50:58Z</dcterms:created>
  <dc:creator>PA Department of Education</dc:creator>
  <dc:description/>
  <dc:language>en-US</dc:language>
  <cp:lastModifiedBy>PA Department of Education</cp:lastModifiedBy>
  <dcterms:modified xsi:type="dcterms:W3CDTF">2008-05-29T14:19:01Z</dcterms:modified>
  <cp:revision>2</cp:revision>
  <dc:subject/>
  <dc:title>Korean War</dc:title>
</cp:coreProperties>
</file>